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72253-B354-49D7-8E15-D08D01EA4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BFA13-A59A-4E78-9592-7B8339BCD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1CB0A-6F47-4B85-AFA0-6055EE710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6083E-F0E7-4E85-AB42-2FC6BFB93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3775A-A56B-42A8-AD4C-8B72E9834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E6510-5267-49F2-BF39-6530573A6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71C8A-8C16-4998-B4DC-8952BAA0D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F7088-0B55-41D4-A03F-3C3BEFB13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4CFDD-D786-405A-8276-9304608F9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F3F5C-0509-41D4-BEF9-4BAD8CCE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F74D5-46D7-409C-9B69-EAAEB49C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9DDEE-710B-4744-838B-575CF864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02DA3-CEB2-4FD3-B199-FFF724923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173FF-1DB0-4E8C-880C-7873D9CF5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F5EE0-F03D-4BAB-A2A7-F9968AF7A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E35C3-6B3E-45DE-B17D-2C8905606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317F9-6021-4DA1-9D1B-D17AAA0FE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C898-1A69-4D52-87DD-02553309C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C70D-5E6B-4B2F-9434-F81EE9839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E8F2-3340-4EE4-B002-2FF6D5F9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19418-5DE8-4D79-B41A-F5D4682C3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787E-7C71-45FA-AEE2-6806DF82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518E8-92E8-423D-9FA8-A19D14C22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51C2-6264-48D8-81C8-000923FF9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OS 1, 2</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943C-49BC-425E-A86E-8A442F650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OS 1, 2</a:t>
            </a:r>
            <a:endParaRPr b="0" lang="en-US" sz="1200" spc="-1" strike="noStrike">
              <a:solidFill>
                <a:srgbClr val="000000"/>
              </a:solidFill>
              <a:latin typeface="Times New Roman"/>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69D8-9CCA-44C1-9DF7-C1909BD189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8"/>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53"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egal Aspects of Investigation</a:t>
            </a:r>
            <a:endParaRPr b="0" lang="en-US" sz="5400" spc="-1" strike="noStrike">
              <a:solidFill>
                <a:srgbClr val="dbbd71"/>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vestigator and the legal syst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Trial Process</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investigator rarely gets to see a full trial</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rial follows the following pattern</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ense questions defense and plaintiff questions plaintiff</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oss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ense questions plaintiff and plaintiff questions defense</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direct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second round of direct examination</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ross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second round of cross examination</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buttal</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remarks made by the defense counsel to promote their case</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rebuttal</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remarks by the prosecution to promote their case</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osing arguments</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nal statements by both parti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Job of Council</a:t>
            </a:r>
            <a:endParaRPr b="0" lang="en-US" sz="4400" spc="-1" strike="noStrike">
              <a:solidFill>
                <a:srgbClr val="dbbd71"/>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ocent Until Proven Guilty</a:t>
            </a:r>
            <a:endParaRPr b="0" lang="en-US" sz="32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secution will present a case to the judge/jury with all evidence that will benefit their case</a:t>
            </a:r>
            <a:endParaRPr b="0" lang="en-US" sz="2800" spc="-1" strike="noStrike">
              <a:solidFill>
                <a:srgbClr val="ffffff"/>
              </a:solidFill>
              <a:latin typeface="Tahoma"/>
            </a:endParaRPr>
          </a:p>
          <a:p>
            <a:pPr lvl="2" marL="1131480" indent="-22608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efendant is innocent until convicted. The prosecution is proving guilt.</a:t>
            </a:r>
            <a:endParaRPr b="0" lang="en-US" sz="24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fense will try to raise reasonable doubt for the guilt of the defendant. They are not trying to prove innocence, simply trying to raise doubt</a:t>
            </a:r>
            <a:endParaRPr b="0" lang="en-US" sz="2800" spc="-1" strike="noStrike">
              <a:solidFill>
                <a:srgbClr val="ffffff"/>
              </a:solidFill>
              <a:latin typeface="Tahoma"/>
            </a:endParaRPr>
          </a:p>
        </p:txBody>
      </p:sp>
      <p:sp>
        <p:nvSpPr>
          <p:cNvPr id="187" name="Footer Placeholder 3"/>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idence</a:t>
            </a:r>
            <a:endParaRPr b="0" lang="en-US" sz="4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ything</a:t>
            </a:r>
            <a:r>
              <a:rPr b="0" lang="en-US" sz="3200" spc="-1" strike="noStrike">
                <a:solidFill>
                  <a:srgbClr val="ffffff"/>
                </a:solidFill>
                <a:latin typeface="Tahoma"/>
              </a:rPr>
              <a:t> that logically tends to prove or disprove the innocence or guilt of a suspec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for a piece of evidence to remain of value, a lengthy procedure must be followe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suspected that the outcome of the OJ Simpson trial was decided due to mishandled ev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ndling Evidence</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llect evidence without disturbing its natural state</a:t>
            </a:r>
            <a:endParaRPr b="0" lang="en-US" sz="18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se gloves, keep yourself safe</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per storage</a:t>
            </a:r>
            <a:endParaRPr b="0" lang="en-US" sz="18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thing with body fluids in paper containers</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rearms in sturdy containers not prone to impact</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n of Custody</a:t>
            </a:r>
            <a:endParaRPr b="0" lang="en-US" sz="18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process begins with the collector signing off on the evidence</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form that indicates anytime evidence is tampered with and includes:</a:t>
            </a:r>
            <a:endParaRPr b="0" lang="en-US" sz="1600" spc="-1" strike="noStrike">
              <a:solidFill>
                <a:srgbClr val="ffffff"/>
              </a:solidFill>
              <a:latin typeface="Tahoma"/>
            </a:endParaRPr>
          </a:p>
          <a:p>
            <a:pPr lvl="2" marL="1143000" indent="-228600">
              <a:lnSpc>
                <a:spcPct val="80000"/>
              </a:lnSpc>
              <a:spcBef>
                <a:spcPts val="34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ame of person touching evidence</a:t>
            </a:r>
            <a:endParaRPr b="0" lang="en-US" sz="1400" spc="-1" strike="noStrike">
              <a:solidFill>
                <a:srgbClr val="ffffff"/>
              </a:solidFill>
              <a:latin typeface="Tahoma"/>
            </a:endParaRPr>
          </a:p>
          <a:p>
            <a:pPr lvl="2" marL="1143000" indent="-228600">
              <a:lnSpc>
                <a:spcPct val="80000"/>
              </a:lnSpc>
              <a:spcBef>
                <a:spcPts val="34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ate and time</a:t>
            </a:r>
            <a:endParaRPr b="0" lang="en-US" sz="1400" spc="-1" strike="noStrike">
              <a:solidFill>
                <a:srgbClr val="ffffff"/>
              </a:solidFill>
              <a:latin typeface="Tahoma"/>
            </a:endParaRPr>
          </a:p>
          <a:p>
            <a:pPr lvl="2" marL="1143000" indent="-228600">
              <a:lnSpc>
                <a:spcPct val="80000"/>
              </a:lnSpc>
              <a:spcBef>
                <a:spcPts val="34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for tampering with evidence</a:t>
            </a:r>
            <a:endParaRPr b="0" lang="en-US" sz="1400" spc="-1" strike="noStrike">
              <a:solidFill>
                <a:srgbClr val="ffffff"/>
              </a:solidFill>
              <a:latin typeface="Tahoma"/>
            </a:endParaRPr>
          </a:p>
        </p:txBody>
      </p:sp>
      <p:pic>
        <p:nvPicPr>
          <p:cNvPr id="194" name="Picture 7" descr="label8110"/>
          <p:cNvPicPr/>
          <p:nvPr/>
        </p:nvPicPr>
        <p:blipFill>
          <a:blip r:embed="rId1"/>
          <a:stretch/>
        </p:blipFill>
        <p:spPr>
          <a:xfrm>
            <a:off x="4495680" y="1371600"/>
            <a:ext cx="1828800" cy="3000240"/>
          </a:xfrm>
          <a:prstGeom prst="rect">
            <a:avLst/>
          </a:prstGeom>
          <a:ln w="0">
            <a:noFill/>
          </a:ln>
        </p:spPr>
      </p:pic>
      <p:pic>
        <p:nvPicPr>
          <p:cNvPr id="195" name="Picture 8" descr="label8122"/>
          <p:cNvPicPr/>
          <p:nvPr/>
        </p:nvPicPr>
        <p:blipFill>
          <a:blip r:embed="rId2"/>
          <a:stretch/>
        </p:blipFill>
        <p:spPr>
          <a:xfrm>
            <a:off x="6553080" y="3809880"/>
            <a:ext cx="1828800" cy="25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oving the Guilt of a Suspect</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ng a suspect guilty is complicated</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ph to the right shows this proces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mbination of all evidence and lack of evidence must be used to prove the guilt of a suspect</a:t>
            </a:r>
            <a:endParaRPr b="0" lang="en-US" sz="2800" spc="-1" strike="noStrike">
              <a:solidFill>
                <a:srgbClr val="ffffff"/>
              </a:solidFill>
              <a:latin typeface="Tahoma"/>
            </a:endParaRPr>
          </a:p>
        </p:txBody>
      </p:sp>
      <p:pic>
        <p:nvPicPr>
          <p:cNvPr id="199" name="Picture 7" descr="evidence oie graph"/>
          <p:cNvPicPr/>
          <p:nvPr/>
        </p:nvPicPr>
        <p:blipFill>
          <a:blip r:embed="rId1"/>
          <a:stretch/>
        </p:blipFill>
        <p:spPr>
          <a:xfrm>
            <a:off x="4648320" y="1841400"/>
            <a:ext cx="4038480" cy="404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ypes of Evidence</a:t>
            </a: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eviden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ically testimony of witnesses that ties the suspect to the crime or scene of the crime</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 Eviden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red to as physical evidence</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bject that is provided in court that ties the suspect to the scene of the crime or even the crime itself</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ve Eviden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lustrative evidence such as pictures, video, interviews, maps, diagrams, etc. that provide assistance in explaining the case in co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re Evidence Types</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rcumstantial Evidenc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thing provided other than direct evidence that logically ties the suspect to the crime</a:t>
            </a:r>
            <a:endParaRPr b="0" lang="en-US" sz="2400" spc="-1" strike="noStrike">
              <a:solidFill>
                <a:srgbClr val="ffffff"/>
              </a:solidFill>
              <a:latin typeface="Tahoma"/>
            </a:endParaRPr>
          </a:p>
          <a:p>
            <a:pPr lvl="2" marL="1143000" indent="-2286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a witness saw a suspect enter the house, then she heard screaming, then she saw the suspect leave the house with a bloody knife, she did not see the stabbing but she can safely assume that one happened</a:t>
            </a:r>
            <a:endParaRPr b="0" lang="en-US" sz="20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inion Evidenc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ters of description in which a nonexpert may give an opinion include color, size, shape, speed, mental condition, identity, race, and languag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pert Witness</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erson who is called to testify in court because of his or her special skills or knowledg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mitted to interpret facts and give opinions about their significance to facilitate jurors’ understanding of complex or technical matters</a:t>
            </a:r>
            <a:endParaRPr b="0" lang="en-US" sz="2400" spc="-1" strike="noStrike">
              <a:solidFill>
                <a:srgbClr val="ffffff"/>
              </a:solidFill>
              <a:latin typeface="Tahoma"/>
            </a:endParaRPr>
          </a:p>
        </p:txBody>
      </p:sp>
      <p:pic>
        <p:nvPicPr>
          <p:cNvPr id="209" name="Picture 6" descr="expert witness"/>
          <p:cNvPicPr/>
          <p:nvPr/>
        </p:nvPicPr>
        <p:blipFill>
          <a:blip r:embed="rId1"/>
          <a:stretch/>
        </p:blipFill>
        <p:spPr>
          <a:xfrm>
            <a:off x="5238720" y="2198520"/>
            <a:ext cx="2857680" cy="33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identiary Privilege</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endants can have these things excluded from the trial:</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idential communications between spous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idential communications between attorney and cli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nd jury proceedings that are considered confident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earsay Rule</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verbal evidence changes everytime it is presented, this rule was creat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rule prevents something that is simply heard from a witness from being presented in cour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a few exceptions to this ru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rest</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major definitions</a:t>
            </a:r>
            <a:endParaRPr b="0" lang="en-US" sz="32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interference with a person which, if not privileged, would constitute false imprisonment </a:t>
            </a:r>
            <a:endParaRPr b="0" lang="en-US" sz="28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ering with the freedom of a person who is suspected of criminal conduct to the extent of taking him to the police station for some purpose </a:t>
            </a:r>
            <a:endParaRPr b="0" lang="en-US" sz="28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ing of custody upon sufficient and proper evidence for the purpose of prosecu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ceptions to the Hearsay Rule</a:t>
            </a:r>
            <a:endParaRPr b="0" lang="en-US" sz="44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essions- A confession is an acknowledgment by a person accused of a crime that he or she is guilty of that crime. Confessions made out of court falls within the hearsay rule. For such confessions to be admissible, they must meet the tests of admissibility and overcome the assumptions of unreliability and untrustworthiness.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missions- One who makes an admission does not acknowledge all. The facts surrounding the crime necessary to constitute guilt but does admit to certain facts or circumstances from which guilt may be inferred by the jury.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ontaneous and Excited Utterances-  If one makes a spontaneous or excited utterance after something startling or unusual has happened, the utterance may be admissible as an exception to the hearsay rule when testified to by one who heard it mad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ceptions continued…</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ying Declarations-  A declaration concerning the facts and circumstances of the fatal injury made by the victim of a homicide is about to die, expects to die, and does not hope to recover is admissible as an exception to the hearsay rule. </a:t>
            </a:r>
            <a:endParaRPr b="0" lang="en-US" sz="2000" spc="-1" strike="noStrike">
              <a:solidFill>
                <a:srgbClr val="ffffff"/>
              </a:solidFill>
              <a:latin typeface="Tahoma"/>
            </a:endParaRPr>
          </a:p>
          <a:p>
            <a:pPr marL="339480" indent="-3394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er Testimony-  Written or oral testimony in a hearing or trial falls within the hearsay rule if that testimony is sought to be introduced in a later judicial proceeding. </a:t>
            </a:r>
            <a:endParaRPr b="0" lang="en-US" sz="2000" spc="-1" strike="noStrike">
              <a:solidFill>
                <a:srgbClr val="ffffff"/>
              </a:solidFill>
              <a:latin typeface="Tahoma"/>
            </a:endParaRPr>
          </a:p>
        </p:txBody>
      </p:sp>
      <p:pic>
        <p:nvPicPr>
          <p:cNvPr id="222" name="Picture 5" descr="mban581l"/>
          <p:cNvPicPr/>
          <p:nvPr/>
        </p:nvPicPr>
        <p:blipFill>
          <a:blip r:embed="rId1"/>
          <a:stretch/>
        </p:blipFill>
        <p:spPr>
          <a:xfrm>
            <a:off x="5224320" y="2133720"/>
            <a:ext cx="291492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line for Projec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1: Cases and Roles Assigned, Overview of Hearing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2: Case Research and Preparati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3:Argument Preparations, Witness Line-ups are due to the cour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4: Case Presented to the Court</a:t>
            </a:r>
            <a:endParaRPr b="0" lang="en-US" sz="2800" spc="-1" strike="noStrike">
              <a:solidFill>
                <a:srgbClr val="ffffff"/>
              </a:solidFill>
              <a:latin typeface="Tahoma"/>
            </a:endParaRPr>
          </a:p>
        </p:txBody>
      </p:sp>
      <p:sp>
        <p:nvSpPr>
          <p:cNvPr id="22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2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nse Team (3)</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secution (3)</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nesses (6)</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ry (remaining class member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8" name="Footer Placeholder 3"/>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ion </a:t>
            </a:r>
            <a:endParaRPr b="0" lang="en-US" sz="32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a Lead Attorney and two others</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line up witnesses</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an opening statement</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oral arguments during direct examinations</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a closing statement</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needed, prepare a rebuttal </a:t>
            </a:r>
            <a:endParaRPr b="0" lang="en-US" sz="2000" spc="-1" strike="noStrike">
              <a:solidFill>
                <a:srgbClr val="ffffff"/>
              </a:solidFill>
              <a:latin typeface="Tahoma"/>
            </a:endParaRPr>
          </a:p>
        </p:txBody>
      </p:sp>
      <p:sp>
        <p:nvSpPr>
          <p:cNvPr id="231" name=""/>
          <p:cNvSpPr txBox="1"/>
          <p:nvPr/>
        </p:nvSpPr>
        <p:spPr>
          <a:xfrm>
            <a:off x="4648320" y="1599840"/>
            <a:ext cx="4038480" cy="4530600"/>
          </a:xfrm>
          <a:prstGeom prst="rect">
            <a:avLst/>
          </a:prstGeom>
          <a:noFill/>
          <a:ln w="0">
            <a:noFill/>
          </a:ln>
        </p:spPr>
        <p:txBody>
          <a:bodyPr anchor="t">
            <a:normAutofit fontScale="94000"/>
          </a:bodyPr>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ense</a:t>
            </a:r>
            <a:endParaRPr b="0" lang="en-US" sz="32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a Lead Attorney and two others</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e up Witnesses</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ok for loopholes in the evidence</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e up witnesses</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opening statement</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oral arguments for direct examination</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closing statement</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needed, prepare a surrebuttal </a:t>
            </a:r>
            <a:endParaRPr b="0" lang="en-US" sz="2000" spc="-1" strike="noStrike">
              <a:solidFill>
                <a:srgbClr val="ffffff"/>
              </a:solidFill>
              <a:latin typeface="Tahoma"/>
            </a:endParaRPr>
          </a:p>
        </p:txBody>
      </p:sp>
      <p:sp>
        <p:nvSpPr>
          <p:cNvPr id="23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Jury</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READ ANYTHING associated with the cas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COMMUNICATE with the defense or prosecution about the cas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COMMUNICATE with each other about the case.</a:t>
            </a:r>
            <a:endParaRPr b="0" lang="en-US" sz="2800" spc="-1" strike="noStrike">
              <a:solidFill>
                <a:srgbClr val="ffffff"/>
              </a:solidFill>
              <a:latin typeface="Tahoma"/>
            </a:endParaRPr>
          </a:p>
        </p:txBody>
      </p:sp>
      <p:sp>
        <p:nvSpPr>
          <p:cNvPr id="23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gredients for Arrest</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tion</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ority</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dy</a:t>
            </a:r>
            <a:endParaRPr b="0" lang="en-US" sz="2800" spc="-1" strike="noStrike">
              <a:solidFill>
                <a:srgbClr val="ffffff"/>
              </a:solidFill>
              <a:latin typeface="Tahoma"/>
            </a:endParaRPr>
          </a:p>
        </p:txBody>
      </p:sp>
      <p:pic>
        <p:nvPicPr>
          <p:cNvPr id="161" name="Picture 5" descr="teri_hatcher2"/>
          <p:cNvPicPr/>
          <p:nvPr/>
        </p:nvPicPr>
        <p:blipFill>
          <a:blip r:embed="rId1"/>
          <a:stretch/>
        </p:blipFill>
        <p:spPr>
          <a:xfrm>
            <a:off x="4762440" y="196056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rest is not…</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g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ing a charge on a person after decision is made to prosecute</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does not necessarily mean there has been an arrest</a:t>
            </a:r>
            <a:endParaRPr b="0" lang="en-US" sz="24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ntion</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porary interference with the freedom of a person for investigative purpo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rest Procedures</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rest will occur if:</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officer has probable cause that the suspect has committed a felony</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rime has been committed in the presence of an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warrant has been issu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obable Cause</a:t>
            </a:r>
            <a:endParaRPr b="0" lang="en-US" sz="4400" spc="-1" strike="noStrike">
              <a:solidFill>
                <a:srgbClr val="dbbd71"/>
              </a:solidFill>
              <a:latin typeface="Arial"/>
            </a:endParaRPr>
          </a:p>
        </p:txBody>
      </p:sp>
      <p:pic>
        <p:nvPicPr>
          <p:cNvPr id="170" name="Picture 5" descr="BXP35732h"/>
          <p:cNvPicPr/>
          <p:nvPr/>
        </p:nvPicPr>
        <p:blipFill>
          <a:blip r:embed="rId1"/>
          <a:stretch/>
        </p:blipFill>
        <p:spPr>
          <a:xfrm>
            <a:off x="1047600" y="2403360"/>
            <a:ext cx="2857680" cy="2924280"/>
          </a:xfrm>
          <a:prstGeom prst="rect">
            <a:avLst/>
          </a:prstGeom>
          <a:ln w="0">
            <a:noFill/>
          </a:ln>
        </p:spPr>
      </p:pic>
      <p:sp>
        <p:nvSpPr>
          <p:cNvPr id="171" name="PlaceHolder 2"/>
          <p:cNvSpPr>
            <a:spLocks noGrp="1"/>
          </p:cNvSpPr>
          <p:nvPr>
            <p:ph/>
          </p:nvPr>
        </p:nvSpPr>
        <p:spPr>
          <a:xfrm>
            <a:off x="4648320" y="1599840"/>
            <a:ext cx="4038480" cy="4530600"/>
          </a:xfrm>
          <a:prstGeom prst="rect">
            <a:avLst/>
          </a:prstGeom>
          <a:noFill/>
          <a:ln w="0">
            <a:noFill/>
          </a:ln>
        </p:spPr>
        <p:txBody>
          <a:bodyPr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officer is allowed to make an arrest without a warrant if:</a:t>
            </a:r>
            <a:endParaRPr b="0" lang="en-US" sz="28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evidence of a crime being committed</a:t>
            </a:r>
            <a:endParaRPr b="0" lang="en-US" sz="24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uspect provides information enough to assume a crime has been committed</a:t>
            </a:r>
            <a:endParaRPr b="0" lang="en-US" sz="24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reason to believe that a crime is about to be committed</a:t>
            </a:r>
            <a:endParaRPr b="0" lang="en-US" sz="2400" spc="-1" strike="noStrike">
              <a:solidFill>
                <a:srgbClr val="ffffff"/>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arrant</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ed a judicial ord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 issued by an acting judg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arrant relieves the officer of the legality of the arres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ote of the requirements of a warr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equirements of a warrant</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me of the officer required to execute the warrant</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pplicable laws and statutes</a:t>
            </a:r>
            <a:endParaRPr b="0" lang="en-US" sz="28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erson can only be arrested for the laws written on the warrant</a:t>
            </a:r>
            <a:endParaRPr b="0" lang="en-US" sz="24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me of the person being arreste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judges name</a:t>
            </a:r>
            <a:endParaRPr b="0" lang="en-US" sz="2800" spc="-1" strike="noStrike">
              <a:solidFill>
                <a:srgbClr val="ffffff"/>
              </a:solidFill>
              <a:latin typeface="Tahoma"/>
            </a:endParaRPr>
          </a:p>
        </p:txBody>
      </p:sp>
      <p:pic>
        <p:nvPicPr>
          <p:cNvPr id="178" name="Picture 6" descr="warrant"/>
          <p:cNvPicPr/>
          <p:nvPr/>
        </p:nvPicPr>
        <p:blipFill>
          <a:blip r:embed="rId1"/>
          <a:stretch/>
        </p:blipFill>
        <p:spPr>
          <a:xfrm>
            <a:off x="5265720" y="1600200"/>
            <a:ext cx="280368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isk in Arrests</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vestigator must consider these options before making an arres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 person flee if allowed to be kept fre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 person be of harm to others if allowed to be kept fre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re be any harm done by making an arrest too ear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15:29:40Z</dcterms:created>
  <dc:creator>Adam's Homepage</dc:creator>
  <dc:description/>
  <dc:language>en-US</dc:language>
  <cp:lastModifiedBy>Adam Goosby</cp:lastModifiedBy>
  <dcterms:modified xsi:type="dcterms:W3CDTF">2011-06-30T20:02:26Z</dcterms:modified>
  <cp:revision>8</cp:revision>
  <dc:subject/>
  <dc:title>Legal Aspects of Investigation</dc:title>
</cp:coreProperties>
</file>